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1C1D9-BCFD-46C3-A568-9084CBD0C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C9C6B-7A7E-4211-85F2-07B2E3EBF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DC96E-BD06-49EC-9AD1-F47C767BB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832D0-0033-45D7-8232-71BFD1E57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773FDE-12C4-4D9E-931D-6FCEB42E9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17846-1E84-4662-805D-933FFDF24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2FD15-6602-474C-A32A-D054FD773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98114-EB5A-4983-89C0-9A1E3BAE9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1EE34-3829-460D-A200-AA587855D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76AE5-0837-499A-994A-D10C0F401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7A9B9-F8CB-4DB4-BACA-EB00A8AA6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499BE-49E7-4FDD-B4CE-CDFA5D8E1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9A495-6239-40DF-8002-F695524F2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75A2B-6C7E-45CF-A877-691666A72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65FC8-BBD8-4B93-819F-3479DD28D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3F9DF0-C889-45BB-A9CF-A61ECB79C4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E8177E-35AB-4A8F-BB81-68F372ED2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7D502-EE6E-4BE6-B92A-CE5BC2DC5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6F500-A735-433A-B568-D75360E7B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C9C94-2C67-4E6D-BF67-BA4D03D1D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3E2D3-7369-46B0-9369-128ACD63A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91C40-3E02-410C-90B0-28D31AD49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F309E-F60F-4586-B2C4-8E52DA73B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8171F-9D06-4A54-A465-A249DACC6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7DB9-F240-453C-8D93-B351A8F34B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DA61-2CB4-460C-A7E1-C9AA0D86E5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tch-Then-Plan Video Planning Templa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t Tip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alk slowly and clearly</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enthusiastic</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actice, Practice and Practice</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lax and have fu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This Template</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use this template, read then delete all of the slides that have a black background.  Complete the slides that have a blue backgrou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Entrepreneurship</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oing</a:t>
            </a:r>
            <a:r>
              <a:rPr b="0" lang="en-US" sz="2800" spc="-1" strike="noStrike">
                <a:solidFill>
                  <a:srgbClr val="ffffff"/>
                </a:solidFill>
                <a:latin typeface="Times New Roman"/>
              </a:rPr>
              <a:t>, not learning to do, is the essence of entrepreneursh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no one ever achieved success by </a:t>
            </a:r>
            <a:r>
              <a:rPr b="0" i="1" lang="en-US" sz="2800" spc="-1" strike="noStrike">
                <a:solidFill>
                  <a:srgbClr val="ffffff"/>
                </a:solidFill>
                <a:latin typeface="Times New Roman"/>
              </a:rPr>
              <a:t>planning</a:t>
            </a:r>
            <a:r>
              <a:rPr b="0" lang="en-US" sz="2800" spc="-1" strike="noStrike">
                <a:solidFill>
                  <a:srgbClr val="ffffff"/>
                </a:solidFill>
                <a:latin typeface="Times New Roman"/>
              </a:rPr>
              <a:t> for gol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rdest thing about getting started is </a:t>
            </a:r>
            <a:r>
              <a:rPr b="0" lang="en-US" sz="2800" spc="-1" strike="noStrike" u="sng">
                <a:solidFill>
                  <a:srgbClr val="ffffff"/>
                </a:solidFill>
                <a:uFillTx/>
                <a:latin typeface="Times New Roman"/>
              </a:rPr>
              <a:t>getting</a:t>
            </a:r>
            <a:r>
              <a:rPr b="0" lang="en-US" sz="2800" spc="-1" strike="noStrike">
                <a:solidFill>
                  <a:srgbClr val="ffffff"/>
                </a:solidFill>
                <a:latin typeface="Times New Roman"/>
              </a:rPr>
              <a:t> </a:t>
            </a:r>
            <a:r>
              <a:rPr b="0" lang="en-US" sz="2800" spc="-1" strike="noStrike" u="sng">
                <a:solidFill>
                  <a:srgbClr val="ffffff"/>
                </a:solidFill>
                <a:uFillTx/>
                <a:latin typeface="Times New Roman"/>
              </a:rPr>
              <a:t>started</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n (emerging) entrepreneur, you should always be selling—not strategizing about sell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per Proces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row together a pitch that contains the slides presented in this template.</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y it out on some mentors, friends, and relatives.  Do this about ten times.</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t the team together in a room and discuss what you have learned.</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x the pitch.</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art writing the scrip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lain Your Movie in The First Minute</a:t>
            </a:r>
            <a:endParaRPr b="0" lang="en-US" sz="36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has a presentation been given where the audience has said to itself, </a:t>
            </a:r>
            <a:r>
              <a:rPr b="0" i="1" lang="en-US" sz="2800" spc="-1" strike="noStrike">
                <a:solidFill>
                  <a:srgbClr val="ffffff"/>
                </a:solidFill>
                <a:latin typeface="Times New Roman"/>
              </a:rPr>
              <a:t>I wish the speaker had spent the first fifteen minutes explaining his life stor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you</a:t>
            </a:r>
            <a:r>
              <a:rPr b="0" lang="ja-JP" sz="2800" spc="-1" strike="noStrike">
                <a:solidFill>
                  <a:srgbClr val="ffffff"/>
                </a:solidFill>
                <a:latin typeface="Times New Roman"/>
              </a:rPr>
              <a:t>’</a:t>
            </a:r>
            <a:r>
              <a:rPr b="0" lang="en-US" sz="2800" spc="-1" strike="noStrike">
                <a:solidFill>
                  <a:srgbClr val="ffffff"/>
                </a:solidFill>
                <a:latin typeface="Times New Roman"/>
              </a:rPr>
              <a:t>re busy warming up, your listeners are inevitably wondering, </a:t>
            </a:r>
            <a:r>
              <a:rPr b="0" i="1" lang="en-US" sz="2800" spc="-1" strike="noStrike">
                <a:solidFill>
                  <a:srgbClr val="ffffff"/>
                </a:solidFill>
                <a:latin typeface="Times New Roman"/>
              </a:rPr>
              <a:t>is your movie abou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everyone a favor:  Answer that question in the </a:t>
            </a:r>
            <a:r>
              <a:rPr b="0" lang="en-US" sz="2800" spc="-1" strike="noStrike" u="sng">
                <a:solidFill>
                  <a:srgbClr val="ffffff"/>
                </a:solidFill>
                <a:uFillTx/>
                <a:latin typeface="Times New Roman"/>
              </a:rPr>
              <a:t>first minute</a:t>
            </a:r>
            <a:r>
              <a:rPr b="0" lang="en-US" sz="2800" spc="-1" strike="noStrike">
                <a:solidFill>
                  <a:srgbClr val="ffffff"/>
                </a:solidFill>
                <a:latin typeface="Times New Roman"/>
              </a:rPr>
              <a:t>.  Once the audience has learned what you do, they can listen to everything else with a more focused perspec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371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mazing Falcon </a:t>
            </a:r>
            <a:endParaRPr b="0" lang="en-US" sz="4400" spc="-1" strike="noStrike">
              <a:solidFill>
                <a:srgbClr val="ffcc66"/>
              </a:solidFill>
              <a:latin typeface="Arial"/>
            </a:endParaRPr>
          </a:p>
        </p:txBody>
      </p:sp>
      <p:sp>
        <p:nvSpPr>
          <p:cNvPr id="98" name="PlaceHolder 2"/>
          <p:cNvSpPr>
            <a:spLocks noGrp="1"/>
          </p:cNvSpPr>
          <p:nvPr>
            <p:ph type="subTitle"/>
          </p:nvPr>
        </p:nvSpPr>
        <p:spPr>
          <a:xfrm>
            <a:off x="0" y="3123720"/>
            <a:ext cx="9144000" cy="25909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sar Sotelo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act Informatio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E9C1-F7DD-4B2D-9594-C8AC0F017428}" type="datetime2">
              <a:rPr b="0" lang="en-US" sz="3200" spc="-1" strike="noStrike">
                <a:solidFill>
                  <a:srgbClr val="ffffff"/>
                </a:solidFill>
                <a:latin typeface="Times New Roman"/>
              </a:rPr>
              <a:t>Wednesday, July 29, 2026</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urpose of my movie is going to tell the audiences that falcons aren’t bad and that they are amazing. I’m also going to tell them, what they do and where they live, eat, etc. I will prove that falcons are better than hawks. I will blow your mine. (maybe)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y to personalize the pitch.</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 Your Idea</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ll explain every detai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ree act structure </a:t>
            </a:r>
            <a:r>
              <a:rPr b="0" lang="en-US" sz="2800" spc="-1" strike="noStrike">
                <a:solidFill>
                  <a:srgbClr val="ffffff"/>
                </a:solidFill>
                <a:latin typeface="Times New Roman"/>
              </a:rPr>
              <a:t>is very familiar for fiction.</a:t>
            </a:r>
            <a:endParaRPr b="0" lang="en-US" sz="28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 Characters and Setting. End with intro of problem/goal. </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I: Solving the problem. End with Climax: the problem gets solved.</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II: Happy ever after par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siness Model</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how you make money:  I’ll upload the video on the internet (Youtube). If people see it and like it, the video will go out in the community more. More people watching to more money.</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ill your movie be special and different? It will be special because you might learn more about it. Also because it’s a different bird, not the same boring hawk.  It will be different because I’ll explain how the falcon is better then the haw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15:42:13Z</dcterms:created>
  <dc:creator/>
  <dc:description/>
  <dc:language>en-US</dc:language>
  <cp:lastModifiedBy>San Diego City Schools</cp:lastModifiedBy>
  <cp:lastPrinted>2009-04-22T19:24:48Z</cp:lastPrinted>
  <dcterms:modified xsi:type="dcterms:W3CDTF">2013-02-20T19:06:28Z</dcterms:modified>
  <cp:revision>48</cp:revision>
  <dc:subject/>
  <dc:title>The Pitch-Then-Plan Business Planning Template</dc:title>
</cp:coreProperties>
</file>